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5AF5-267E-4A1C-9615-A92BCF86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B55E-05FC-4EFC-B363-61B69C09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9635-4D47-41D5-BBF3-054955F71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27F6-5E73-423B-9542-B8365809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BA3B-3CD2-4F82-84D4-EBD21095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2AF-8C2D-4599-91C7-A380D703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B2E-F227-4BA1-A065-9C3B71E1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450C-9EAF-49A8-ACA6-4442F20AE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E0AD-5B02-40DE-909B-20D48F96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F2B1-BCBB-4B48-A838-923CEEAC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2C93-C997-494B-A713-607FE41E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B554-563D-43F9-9892-BE8A46BB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CE7A-7F88-4696-AA67-3E2A4406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EB98-8A87-4986-9372-81673F98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9741-410E-4D9A-8236-F9892E747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CE3E-82CF-4B90-A083-55740976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D92C-EAF8-4682-8D62-F1D3F00A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CAA2-D69E-4C5E-A135-02B32FDC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CE74-1E96-4C22-B349-16BAD10A8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0C6-D302-4C7A-88E2-AFA94C7CE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2E2-B2C8-49E3-86B8-C6FEE0D4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35E-EB66-40D5-BA90-844A6592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538-46F0-401C-B901-4D9C94C8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3BD-C805-46D0-9768-894B13A7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B1F-089C-4E21-816B-2812F717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682-B633-4D2A-9566-D794860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60B-6976-4DCA-BFE8-CB40C7BC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403-AEFE-47AF-BE3B-8A88C6BD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ED1-16BA-4AD5-B937-035800A1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38A-DFC5-4F0C-B5F0-10B571A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BE3-0A07-4B51-8025-F87C125A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4C7-8013-4755-A107-6D04614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4d"/>
            </a:gs>
            <a:gs pos="100000">
              <a:srgbClr val="50a8c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5E82-1328-4F19-87BF-6E25F9DC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4920" y="76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1b0d"/>
                </a:solidFill>
                <a:latin typeface="Chalkboard"/>
              </a:rPr>
              <a:t>ELECTROMAGNETIS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0660"/>
                </a:solidFill>
                <a:latin typeface="Arial"/>
              </a:rPr>
              <a:t>Magnetism from Electric Cur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16765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441e"/>
                </a:solidFill>
                <a:latin typeface="Arial"/>
              </a:rPr>
              <a:t>CHAPTER 18, Section 2, pages 626-6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c0055c952"/>
          <p:cNvPicPr/>
          <p:nvPr/>
        </p:nvPicPr>
        <p:blipFill>
          <a:blip r:embed="rId1"/>
          <a:srcRect l="0" t="29940" r="0" b="26614"/>
          <a:stretch/>
        </p:blipFill>
        <p:spPr>
          <a:xfrm>
            <a:off x="0" y="3352680"/>
            <a:ext cx="91440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arsol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5335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________ of each loop ______ to the strength of the magnetic field of any neighboring loop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0880" y="2286000"/>
            <a:ext cx="4496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urrent changes direction, the ________________ changes direction and the _______ flip (use a __________ to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solenoid"/>
          <p:cNvPicPr/>
          <p:nvPr/>
        </p:nvPicPr>
        <p:blipFill>
          <a:blip r:embed="rId1"/>
          <a:stretch/>
        </p:blipFill>
        <p:spPr>
          <a:xfrm>
            <a:off x="5257800" y="1600200"/>
            <a:ext cx="3360600" cy="5029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371600" y="53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57200" y="4724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808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143000" y="4267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33520" y="990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AD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c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1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c10"/>
                </a:solidFill>
                <a:latin typeface="Arial"/>
              </a:rPr>
              <a:t>To </a:t>
            </a:r>
            <a:r>
              <a:rPr b="1" lang="en-US" sz="3200" spc="-1" strike="noStrike" u="sng">
                <a:solidFill>
                  <a:srgbClr val="fffc10"/>
                </a:solidFill>
                <a:uFillTx/>
                <a:latin typeface="Arial"/>
              </a:rPr>
              <a:t>INCREASE</a:t>
            </a:r>
            <a:r>
              <a:rPr b="0" lang="en-US" sz="3200" spc="-1" strike="noStrike">
                <a:solidFill>
                  <a:srgbClr val="fffc10"/>
                </a:solidFill>
                <a:latin typeface="Arial"/>
              </a:rPr>
              <a:t> a solenoid’s magnetic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1066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80880" y="1905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28600" y="46483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3. 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990720" y="464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ferromagnetic material in center of c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80880" y="33526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04920" y="5562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This makes an __________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wire_current"/>
          <p:cNvPicPr/>
          <p:nvPr/>
        </p:nvPicPr>
        <p:blipFill>
          <a:blip r:embed="rId1"/>
          <a:stretch/>
        </p:blipFill>
        <p:spPr>
          <a:xfrm>
            <a:off x="2819520" y="2590920"/>
            <a:ext cx="3124080" cy="1838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35268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0660"/>
                </a:solidFill>
                <a:latin typeface="Arial"/>
              </a:rPr>
              <a:t>ELECTROM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914400" y="1066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# of coils (combines magnetic fiel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99072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voltage (which increases cur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 ELECTROMAG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12193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___________ than solenoids themselves because the magnetic field of the ______ causes the ferromagnetic core to become a ________.  The _________ of the core line up and create a larger magnetic fiel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lectromagnet_ani"/>
          <p:cNvPicPr/>
          <p:nvPr/>
        </p:nvPicPr>
        <p:blipFill>
          <a:blip r:embed="rId1"/>
          <a:stretch/>
        </p:blipFill>
        <p:spPr>
          <a:xfrm>
            <a:off x="4495680" y="3405240"/>
            <a:ext cx="4267440" cy="3452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31120" y="396252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“magnet charg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00200" y="12193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248520" y="1676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781680" y="2209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143000" y="2666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533520" y="6095880"/>
            <a:ext cx="1981080" cy="381240"/>
          </a:xfrm>
          <a:prstGeom prst="rect">
            <a:avLst/>
          </a:prstGeom>
          <a:solidFill>
            <a:srgbClr val="1c1c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762120" y="4724280"/>
            <a:ext cx="609480" cy="1600200"/>
          </a:xfrm>
          <a:prstGeom prst="can">
            <a:avLst>
              <a:gd name="adj" fmla="val 25000"/>
            </a:avLst>
          </a:prstGeom>
          <a:solidFill>
            <a:srgbClr val="1e98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1676520" y="4724280"/>
            <a:ext cx="609480" cy="1600200"/>
          </a:xfrm>
          <a:prstGeom prst="can">
            <a:avLst>
              <a:gd name="adj" fmla="val 25000"/>
            </a:avLst>
          </a:prstGeom>
          <a:solidFill>
            <a:srgbClr val="1e98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8"/>
          <p:cNvSpPr/>
          <p:nvPr/>
        </p:nvSpPr>
        <p:spPr>
          <a:xfrm>
            <a:off x="779400" y="519444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0"/>
          <p:cNvSpPr/>
          <p:nvPr/>
        </p:nvSpPr>
        <p:spPr>
          <a:xfrm>
            <a:off x="762120" y="54100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762120" y="53341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762120" y="54864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3"/>
          <p:cNvSpPr/>
          <p:nvPr/>
        </p:nvSpPr>
        <p:spPr>
          <a:xfrm>
            <a:off x="762120" y="55627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4"/>
          <p:cNvSpPr/>
          <p:nvPr/>
        </p:nvSpPr>
        <p:spPr>
          <a:xfrm>
            <a:off x="762120" y="52578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5"/>
          <p:cNvSpPr/>
          <p:nvPr/>
        </p:nvSpPr>
        <p:spPr>
          <a:xfrm>
            <a:off x="762120" y="51055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6"/>
          <p:cNvSpPr/>
          <p:nvPr/>
        </p:nvSpPr>
        <p:spPr>
          <a:xfrm>
            <a:off x="762120" y="50292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7"/>
          <p:cNvSpPr/>
          <p:nvPr/>
        </p:nvSpPr>
        <p:spPr>
          <a:xfrm>
            <a:off x="762120" y="57913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8"/>
          <p:cNvSpPr/>
          <p:nvPr/>
        </p:nvSpPr>
        <p:spPr>
          <a:xfrm>
            <a:off x="762120" y="56386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9"/>
          <p:cNvSpPr/>
          <p:nvPr/>
        </p:nvSpPr>
        <p:spPr>
          <a:xfrm>
            <a:off x="762120" y="57150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0"/>
          <p:cNvSpPr/>
          <p:nvPr/>
        </p:nvSpPr>
        <p:spPr>
          <a:xfrm>
            <a:off x="762120" y="58672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1"/>
          <p:cNvSpPr/>
          <p:nvPr/>
        </p:nvSpPr>
        <p:spPr>
          <a:xfrm>
            <a:off x="762120" y="59436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2"/>
          <p:cNvSpPr/>
          <p:nvPr/>
        </p:nvSpPr>
        <p:spPr>
          <a:xfrm>
            <a:off x="1676520" y="54100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3"/>
          <p:cNvSpPr/>
          <p:nvPr/>
        </p:nvSpPr>
        <p:spPr>
          <a:xfrm>
            <a:off x="762120" y="61722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4"/>
          <p:cNvSpPr/>
          <p:nvPr/>
        </p:nvSpPr>
        <p:spPr>
          <a:xfrm>
            <a:off x="762120" y="60958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5"/>
          <p:cNvSpPr/>
          <p:nvPr/>
        </p:nvSpPr>
        <p:spPr>
          <a:xfrm>
            <a:off x="762120" y="60199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1676520" y="52578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1676520" y="51055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8"/>
          <p:cNvSpPr/>
          <p:nvPr/>
        </p:nvSpPr>
        <p:spPr>
          <a:xfrm>
            <a:off x="1676520" y="51814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9"/>
          <p:cNvSpPr/>
          <p:nvPr/>
        </p:nvSpPr>
        <p:spPr>
          <a:xfrm>
            <a:off x="1676520" y="53341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0"/>
          <p:cNvSpPr/>
          <p:nvPr/>
        </p:nvSpPr>
        <p:spPr>
          <a:xfrm>
            <a:off x="1676520" y="5105520"/>
            <a:ext cx="577800" cy="75960"/>
          </a:xfrm>
          <a:custGeom>
            <a:avLst/>
            <a:gdLst>
              <a:gd name="textAreaLeft" fmla="*/ 0 w 577800"/>
              <a:gd name="textAreaRight" fmla="*/ 578160 w 577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41"/>
          <p:cNvSpPr/>
          <p:nvPr/>
        </p:nvSpPr>
        <p:spPr>
          <a:xfrm>
            <a:off x="1676520" y="56386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42"/>
          <p:cNvSpPr/>
          <p:nvPr/>
        </p:nvSpPr>
        <p:spPr>
          <a:xfrm>
            <a:off x="1676520" y="55627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3"/>
          <p:cNvSpPr/>
          <p:nvPr/>
        </p:nvSpPr>
        <p:spPr>
          <a:xfrm>
            <a:off x="1676520" y="54864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44"/>
          <p:cNvSpPr/>
          <p:nvPr/>
        </p:nvSpPr>
        <p:spPr>
          <a:xfrm>
            <a:off x="1676520" y="59436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1676520" y="58672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1676520" y="57913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1676520" y="57150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1676520" y="617220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9"/>
          <p:cNvSpPr/>
          <p:nvPr/>
        </p:nvSpPr>
        <p:spPr>
          <a:xfrm>
            <a:off x="1676520" y="6095880"/>
            <a:ext cx="577800" cy="130320"/>
          </a:xfrm>
          <a:custGeom>
            <a:avLst/>
            <a:gdLst>
              <a:gd name="textAreaLeft" fmla="*/ 0 w 577800"/>
              <a:gd name="textAreaRight" fmla="*/ 578160 w 577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50"/>
          <p:cNvSpPr/>
          <p:nvPr/>
        </p:nvSpPr>
        <p:spPr>
          <a:xfrm>
            <a:off x="1676520" y="6019920"/>
            <a:ext cx="577800" cy="129960"/>
          </a:xfrm>
          <a:custGeom>
            <a:avLst/>
            <a:gdLst>
              <a:gd name="textAreaLeft" fmla="*/ 0 w 577800"/>
              <a:gd name="textAreaRight" fmla="*/ 578160 w 5778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4" h="82">
                <a:moveTo>
                  <a:pt x="0" y="0"/>
                </a:moveTo>
                <a:cubicBezTo>
                  <a:pt x="32" y="34"/>
                  <a:pt x="73" y="67"/>
                  <a:pt x="118" y="82"/>
                </a:cubicBezTo>
                <a:cubicBezTo>
                  <a:pt x="175" y="79"/>
                  <a:pt x="233" y="79"/>
                  <a:pt x="291" y="73"/>
                </a:cubicBezTo>
                <a:cubicBezTo>
                  <a:pt x="309" y="70"/>
                  <a:pt x="345" y="55"/>
                  <a:pt x="345" y="55"/>
                </a:cubicBezTo>
                <a:cubicBezTo>
                  <a:pt x="355" y="23"/>
                  <a:pt x="346" y="34"/>
                  <a:pt x="364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1"/>
          <p:cNvSpPr/>
          <p:nvPr/>
        </p:nvSpPr>
        <p:spPr>
          <a:xfrm>
            <a:off x="1447920" y="6248520"/>
            <a:ext cx="152280" cy="152280"/>
          </a:xfrm>
          <a:prstGeom prst="ellipse">
            <a:avLst/>
          </a:prstGeom>
          <a:solidFill>
            <a:srgbClr val="fffc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52280" y="83808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magnets may be turned ______ depending on if ________ is flow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eavydutyliftingmagnet"/>
          <p:cNvPicPr/>
          <p:nvPr/>
        </p:nvPicPr>
        <p:blipFill>
          <a:blip r:embed="rId1"/>
          <a:srcRect l="26911" t="0" r="17940" b="0"/>
          <a:stretch/>
        </p:blipFill>
        <p:spPr>
          <a:xfrm>
            <a:off x="4100400" y="0"/>
            <a:ext cx="50436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04920" y="19810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52280" y="1981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ON/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143000" y="2514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86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.  ELECTROMAGNETIC DE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28600" y="990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vanometer/Ammeter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80880" y="160020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n _________________ (attached to a pivoting needle) that interacts with a ____________ magnet to measure __________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57200" y="2133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ELECTROM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572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PERMANENT</a:t>
            </a: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57200" y="5486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410080" y="4648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Galvanometer_diagram"/>
          <p:cNvPicPr/>
          <p:nvPr/>
        </p:nvPicPr>
        <p:blipFill>
          <a:blip r:embed="rId1"/>
          <a:srcRect l="0" t="0" r="7465" b="0"/>
          <a:stretch/>
        </p:blipFill>
        <p:spPr>
          <a:xfrm>
            <a:off x="5257800" y="1368360"/>
            <a:ext cx="38862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rcRect l="31724" t="0" r="0" b="0"/>
          <a:stretch/>
        </p:blipFill>
        <p:spPr>
          <a:xfrm>
            <a:off x="228600" y="2149560"/>
            <a:ext cx="8686800" cy="4708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ronger the __________ through the coils, the greater the attraction/repulsion with the permanent mag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3809880" y="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04920" y="0"/>
            <a:ext cx="8534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Bookman Old Style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Electric Mo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28600" y="9144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s (changes) ____________ energy into _____________ energy (mo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4191120" y="914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1143000" y="1371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745583.jpg"/>
          <p:cNvPicPr/>
          <p:nvPr/>
        </p:nvPicPr>
        <p:blipFill>
          <a:blip r:embed="rId1"/>
          <a:stretch/>
        </p:blipFill>
        <p:spPr>
          <a:xfrm>
            <a:off x="1981080" y="2209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HAIR_DRYER.jpg"/>
          <p:cNvPicPr/>
          <p:nvPr/>
        </p:nvPicPr>
        <p:blipFill>
          <a:blip r:embed="rId2"/>
          <a:stretch/>
        </p:blipFill>
        <p:spPr>
          <a:xfrm>
            <a:off x="6324480" y="2133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kitchen-aid-artian-mixer.jpg"/>
          <p:cNvPicPr/>
          <p:nvPr/>
        </p:nvPicPr>
        <p:blipFill>
          <a:blip r:embed="rId3"/>
          <a:stretch/>
        </p:blipFill>
        <p:spPr>
          <a:xfrm>
            <a:off x="304920" y="4572000"/>
            <a:ext cx="254628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6194520" y="4724280"/>
            <a:ext cx="294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s in your house use A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KitchenAid Pro Line Chefs Blender.jpg"/>
          <p:cNvPicPr/>
          <p:nvPr/>
        </p:nvPicPr>
        <p:blipFill>
          <a:blip r:embed="rId4"/>
          <a:stretch/>
        </p:blipFill>
        <p:spPr>
          <a:xfrm>
            <a:off x="3429000" y="4314960"/>
            <a:ext cx="25401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rcRect l="49860" t="0" r="0" b="26890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rcRect l="0" t="0" r="49860" b="26890"/>
          <a:stretch/>
        </p:blipFill>
        <p:spPr>
          <a:xfrm>
            <a:off x="3886200" y="2438280"/>
            <a:ext cx="5257800" cy="40640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304920" y="2438280"/>
            <a:ext cx="29718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C MO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28600" y="2286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w from the battery, through the _______ to the ___________ and then through the ____ of an electromag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505320" y="762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commut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04920" y="762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brus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743200" y="1295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1b0d"/>
                </a:solidFill>
                <a:latin typeface="Arial"/>
              </a:rPr>
              <a:t>co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638680" y="3200400"/>
            <a:ext cx="121932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5029200" y="2514600"/>
            <a:ext cx="190512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mag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391520" y="5029200"/>
            <a:ext cx="114300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6400800" y="358128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620120" y="41148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934320" y="2743200"/>
            <a:ext cx="4572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 flipV="1">
            <a:off x="6400800" y="4495680"/>
            <a:ext cx="4572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6248520" y="5562720"/>
            <a:ext cx="228600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5791320" y="4191120"/>
            <a:ext cx="53316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4724280" y="3733920"/>
            <a:ext cx="1219320" cy="380880"/>
          </a:xfrm>
          <a:prstGeom prst="rect">
            <a:avLst/>
          </a:prstGeom>
          <a:solidFill>
            <a:srgbClr val="8cf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4"/>
          <p:cNvSpPr/>
          <p:nvPr/>
        </p:nvSpPr>
        <p:spPr>
          <a:xfrm>
            <a:off x="228600" y="3505320"/>
            <a:ext cx="358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lways flow in the same direction: from negative to positi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28600" y="45720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441e"/>
                </a:solidFill>
                <a:latin typeface="Arial"/>
              </a:rPr>
              <a:t>1820: Den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0660"/>
                </a:solidFill>
                <a:latin typeface="Arial"/>
              </a:rPr>
              <a:t>Hans Christian Oer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oersted_fig"/>
          <p:cNvPicPr/>
          <p:nvPr/>
        </p:nvPicPr>
        <p:blipFill>
          <a:blip r:embed="rId1"/>
          <a:stretch/>
        </p:blipFill>
        <p:spPr>
          <a:xfrm>
            <a:off x="4419720" y="228600"/>
            <a:ext cx="458784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6781680" y="762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483e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map-of-denmark"/>
          <p:cNvPicPr/>
          <p:nvPr/>
        </p:nvPicPr>
        <p:blipFill>
          <a:blip r:embed="rId2"/>
          <a:stretch/>
        </p:blipFill>
        <p:spPr>
          <a:xfrm>
            <a:off x="152280" y="3276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49860" t="0" r="0" b="26890"/>
          <a:stretch/>
        </p:blipFill>
        <p:spPr>
          <a:xfrm>
            <a:off x="3962520" y="2854440"/>
            <a:ext cx="5181480" cy="40035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457200" y="380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field of the ____________ magnet interacts with the magnetic field of the _________________ (opposites _________, like poles ______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2590920"/>
            <a:ext cx="4038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 brushes lose contact with the “split-ring” ______________.  Current is turned off, but the __________ still spins due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800600" y="380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066680" y="1371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ELECTRO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90720" y="1828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AT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876920" y="1828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MMU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371600" y="5029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ARM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0" y="6019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48563" b="26226"/>
          <a:stretch/>
        </p:blipFill>
        <p:spPr>
          <a:xfrm>
            <a:off x="1676520" y="2579760"/>
            <a:ext cx="5638680" cy="42782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380880" y="38088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brushes touch the _____________ again and current flows through the coils in the __________ direction.  The poles ________ and the coil repels and spin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5029200" y="380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MMU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523880" y="1371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38080" y="182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48563" t="0" r="0" b="19670"/>
          <a:stretch/>
        </p:blipFill>
        <p:spPr>
          <a:xfrm>
            <a:off x="3962520" y="2362320"/>
            <a:ext cx="5181480" cy="42814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304920" y="4572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is process continues.  As current changes direction the _______________ changes 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800600" y="914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8600" y="2286000"/>
            <a:ext cx="3581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…repel….attract…repel….attract…repel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ctric motor spi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48563" t="0" r="0" b="19670"/>
          <a:stretch/>
        </p:blipFill>
        <p:spPr>
          <a:xfrm>
            <a:off x="380880" y="0"/>
            <a:ext cx="83059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15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28600" y="914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year _____, the Danish physicist ____________________ observ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1337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A compass needle (placed near a wire) moves as soon as current flows through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28600" y="41148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When Oersted reversed the current direction in the conductor the compass need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5562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moved in the opposit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52280" y="56386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819520" y="8380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1b0d"/>
                </a:solidFill>
                <a:latin typeface="Arial"/>
              </a:rPr>
              <a:t>18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14400" y="1371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Hans Christian Oer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compass_pocket"/>
          <p:cNvPicPr/>
          <p:nvPr/>
        </p:nvPicPr>
        <p:blipFill>
          <a:blip r:embed="rId1"/>
          <a:stretch/>
        </p:blipFill>
        <p:spPr>
          <a:xfrm>
            <a:off x="6858000" y="2057400"/>
            <a:ext cx="158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80880" y="1752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1.  A </a:t>
            </a:r>
            <a:r>
              <a:rPr b="0" i="1" lang="en-US" sz="3200" spc="-1" strike="noStrike" u="sng">
                <a:solidFill>
                  <a:srgbClr val="0a441e"/>
                </a:solidFill>
                <a:uFillTx/>
                <a:latin typeface="American Typewriter"/>
              </a:rPr>
              <a:t>current</a:t>
            </a: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 flowing through a conductor </a:t>
            </a:r>
            <a:r>
              <a:rPr b="0" i="1" lang="en-US" sz="3200" spc="-1" strike="noStrike" u="sng">
                <a:solidFill>
                  <a:srgbClr val="0a441e"/>
                </a:solidFill>
                <a:uFillTx/>
                <a:latin typeface="American Typewriter"/>
              </a:rPr>
              <a:t>produces a 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" y="30492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se observations, Oersted conclud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33526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2.  The </a:t>
            </a:r>
            <a:r>
              <a:rPr b="0" i="1" lang="en-US" sz="3200" spc="-1" strike="noStrike" u="sng">
                <a:solidFill>
                  <a:srgbClr val="0a441e"/>
                </a:solidFill>
                <a:uFillTx/>
                <a:latin typeface="American Typewriter"/>
              </a:rPr>
              <a:t>direction</a:t>
            </a:r>
            <a:r>
              <a:rPr b="0" i="1" lang="en-US" sz="3200" spc="-1" strike="noStrike">
                <a:solidFill>
                  <a:srgbClr val="0a441e"/>
                </a:solidFill>
                <a:latin typeface="American Typewriter"/>
              </a:rPr>
              <a:t> of this magnetic field </a:t>
            </a:r>
            <a:r>
              <a:rPr b="0" i="1" lang="en-US" sz="3200" spc="-1" strike="noStrike" u="sng">
                <a:solidFill>
                  <a:srgbClr val="0a441e"/>
                </a:solidFill>
                <a:uFillTx/>
                <a:latin typeface="American Typewriter"/>
              </a:rPr>
              <a:t>depends on the direction of the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1447920"/>
            <a:ext cx="4953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 The magnetic field around a current-carrying wire forms a _________ around the condu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wire_current_up"/>
          <p:cNvPicPr/>
          <p:nvPr/>
        </p:nvPicPr>
        <p:blipFill>
          <a:blip r:embed="rId1"/>
          <a:stretch/>
        </p:blipFill>
        <p:spPr>
          <a:xfrm>
            <a:off x="601992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wire_current_off"/>
          <p:cNvPicPr/>
          <p:nvPr/>
        </p:nvPicPr>
        <p:blipFill>
          <a:blip r:embed="rId2"/>
          <a:stretch/>
        </p:blipFill>
        <p:spPr>
          <a:xfrm>
            <a:off x="6019920" y="990720"/>
            <a:ext cx="2819160" cy="2819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57200" y="4038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1b0d"/>
                </a:solidFill>
                <a:latin typeface="Arial"/>
              </a:rPr>
              <a:t>CIR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2860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ELECTROMAGNE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Fig3"/>
          <p:cNvPicPr/>
          <p:nvPr/>
        </p:nvPicPr>
        <p:blipFill>
          <a:blip r:embed="rId1"/>
          <a:srcRect l="22292" t="0" r="33437" b="27692"/>
          <a:stretch/>
        </p:blipFill>
        <p:spPr>
          <a:xfrm>
            <a:off x="76320" y="76320"/>
            <a:ext cx="90676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80880" y="457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he __________________ is used to find the direction of the ________________ produced by a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25909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U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oints in the direction of the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04920" y="46483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NGERT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oint       in the direction of the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905120" y="4572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RIGHT-HAND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886200" y="914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33520" y="3581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0880" y="56386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right-hand-rule"/>
          <p:cNvPicPr/>
          <p:nvPr/>
        </p:nvPicPr>
        <p:blipFill>
          <a:blip r:embed="rId1"/>
          <a:stretch/>
        </p:blipFill>
        <p:spPr>
          <a:xfrm>
            <a:off x="4876920" y="1523880"/>
            <a:ext cx="4303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ieldnearwire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83" name="Line 3"/>
          <p:cNvSpPr/>
          <p:nvPr/>
        </p:nvSpPr>
        <p:spPr>
          <a:xfrm flipH="1">
            <a:off x="2057040" y="2438280"/>
            <a:ext cx="4800600" cy="0"/>
          </a:xfrm>
          <a:prstGeom prst="line">
            <a:avLst/>
          </a:prstGeom>
          <a:ln w="76320">
            <a:solidFill>
              <a:srgbClr val="0a44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3049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eno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9907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__________ is a _____ of wire with an electric current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4800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s as a _________ when current passes through it (has a ________________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990720" y="990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SOLE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114800" y="990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C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666880" y="4800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429000" y="5257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b0d"/>
                </a:solidFill>
                <a:latin typeface="Arial"/>
              </a:rPr>
              <a:t>MAGNETIC FI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solenoid11"/>
          <p:cNvPicPr/>
          <p:nvPr/>
        </p:nvPicPr>
        <p:blipFill>
          <a:blip r:embed="rId1"/>
          <a:stretch/>
        </p:blipFill>
        <p:spPr>
          <a:xfrm>
            <a:off x="990720" y="2133720"/>
            <a:ext cx="72133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2:22:46Z</dcterms:created>
  <dc:creator>Sarah Sewatsky User</dc:creator>
  <dc:description/>
  <dc:language>en-US</dc:language>
  <cp:lastModifiedBy>Michele</cp:lastModifiedBy>
  <cp:lastPrinted>2011-12-07T00:15:12Z</cp:lastPrinted>
  <dcterms:modified xsi:type="dcterms:W3CDTF">2012-11-26T19:55:22Z</dcterms:modified>
  <cp:revision>52</cp:revision>
  <dc:subject/>
  <dc:title>PowerPoint Presentation</dc:title>
</cp:coreProperties>
</file>